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8.wmf" ContentType="image/x-wmf"/>
  <Override PartName="/ppt/media/image15.wmf" ContentType="image/x-wmf"/>
  <Override PartName="/ppt/media/image14.wmf" ContentType="image/x-wmf"/>
  <Override PartName="/ppt/media/image13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laser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7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AA05A-0C90-4823-A2D9-69E5D000F8A6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İÇİN  KİTAP   OKUMALIY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İÇİN  KİTAP   OKUMALIY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BB8E-258A-4B9D-9828-036769489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A8C4-68F9-47F3-9DCE-C7952B858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7695-7136-49CB-9429-DD61AC4C0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C19A-0FE1-4048-81DE-9374C5C60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1873B-40E2-4E72-B664-6B0450975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9F5AA-5CA7-4657-BFF5-4D9786792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9571E-95F9-47B7-8837-346E6AE4F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E20C2-352D-4BB5-91F3-B21D75322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08C72-6AF6-44BA-97B8-897581EB9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0BF5E-0227-4CA5-818B-2D06AFB1E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9A934-2A4B-4A1A-8905-95235701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C938-B21A-4B1C-A490-DD9730F1C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25E27-4D3A-447C-A5CD-DE4761BE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57734-7D64-4C97-8B7C-2D83750A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918FA-48EA-40B8-A929-2921D8A4C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F977F-7EE2-4CA8-9A94-00F0A5786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F3D61-D02F-48C1-B63A-8B4685CAC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4634-D6D3-437B-B7BA-18E5C28DC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FF6B-E598-414A-895D-2C78ABC84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1760-5460-4A12-B8A8-0EFC0B56C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7CD0-481C-4B95-8E8B-7324CC5F7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0C9C-ED07-492F-87EE-0A0C1834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5176-F222-4003-AB24-D861191E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C9A9-A25D-4627-8324-48C50347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9BC76-1A18-4573-BBDD-ACB1731720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02C55-E74E-4891-90ED-87E7DA2247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828800" y="2276640"/>
            <a:ext cx="777240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4876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200040" y="914040"/>
            <a:ext cx="5257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Lucida Sans"/>
                <a:ea typeface="Times New Roman"/>
              </a:rPr>
              <a:t>Kitaba   uzak  bir  toplum  fikirsiz  toplumdur . Fikirsiz   toplum ise  toplum  değil,  sadece  bir  yığındır. Çilesiz, kimliksiz  ve  başkaları   tarafından  kullanıla gelen  bir  toplu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28600" y="990720"/>
          <a:ext cx="297180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0720"/>
                    <a:ext cx="29718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7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3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685800"/>
            <a:ext cx="37339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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i="1" lang="en-US" sz="2800" spc="-1" strike="noStrike">
                <a:solidFill>
                  <a:srgbClr val="ffffff"/>
                </a:solidFill>
                <a:latin typeface="Lucida Sans"/>
                <a:ea typeface="Times New Roman"/>
              </a:rPr>
              <a:t>Kitap,  ömrü   uzatmanın   en iyi ilacıdır. Kim ki  kitap sever  ve okur, onun  yaşayışı  dolu, ve zengin  olur.  Zira   insanın  baş  düşmanı  boşluk ve  tembelliktir  ki  bu da stresleri   doğurur .  Streslerse  insanın ölüm alarmlarıdı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724280" y="304920"/>
          <a:ext cx="417060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304920"/>
                    <a:ext cx="41706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7000">
    <p:zoom dir="out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4" dur="3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191120" y="837720"/>
            <a:ext cx="49528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i="1" lang="en-US" sz="3200" spc="-1" strike="noStrike">
                <a:solidFill>
                  <a:srgbClr val="ffffff"/>
                </a:solidFill>
                <a:latin typeface="Lucida Sans"/>
                <a:ea typeface="Times New Roman"/>
              </a:rPr>
              <a:t>W.HOLMES  “Kitap okumakla   insan  zekası   gelişir” .   diy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Lucida Sans"/>
                <a:ea typeface="Times New Roman"/>
              </a:rPr>
              <a:t>James  HWELL:  “Dünyayı  yöneten  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Lucida Sans"/>
                <a:ea typeface="Times New Roman"/>
              </a:rPr>
              <a:t>KALEM 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Lucida Sans"/>
                <a:ea typeface="Times New Roman"/>
              </a:rPr>
              <a:t> 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Lucida Sans"/>
                <a:ea typeface="Times New Roman"/>
              </a:rPr>
              <a:t>MÜREKKEP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Lucida Sans"/>
                <a:ea typeface="Times New Roman"/>
              </a:rPr>
              <a:t> 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Lucida Sans"/>
                <a:ea typeface="Times New Roman"/>
              </a:rPr>
              <a:t>VE   KAĞITTIR</a:t>
            </a:r>
            <a:r>
              <a:rPr b="1" i="1" lang="en-US" sz="3200" spc="-1" strike="noStrike">
                <a:solidFill>
                  <a:srgbClr val="ffffff"/>
                </a:solidFill>
                <a:latin typeface="Lucida Sans"/>
                <a:ea typeface="Times New Roman"/>
              </a:rPr>
              <a:t>”  diy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04920" y="457200"/>
          <a:ext cx="3483000" cy="346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57200"/>
                    <a:ext cx="3483000" cy="34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7000">
    <p:zoom dir="out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5" dur="3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8100"/>
                            </p:stCondLst>
                            <p:childTnLst>
                              <p:par>
                                <p:cTn id="177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9" dur="3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81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3" dur="3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5100"/>
                            </p:stCondLst>
                            <p:childTnLst>
                              <p:par>
                                <p:cTn id="185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7" dur="3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827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</a:t>
            </a:r>
            <a:r>
              <a:rPr b="1" i="1" lang="tr-TR" sz="3200" spc="-1" strike="noStrike">
                <a:solidFill>
                  <a:srgbClr val="ffffff"/>
                </a:solidFill>
                <a:latin typeface="Lucida Sans"/>
                <a:ea typeface="Times New Roman"/>
              </a:rPr>
              <a:t>“</a:t>
            </a:r>
            <a:r>
              <a:rPr b="1" i="1" lang="tr-TR" sz="3200" spc="-1" strike="noStrike">
                <a:solidFill>
                  <a:srgbClr val="ffffff"/>
                </a:solidFill>
                <a:latin typeface="Lucida Sans"/>
                <a:ea typeface="Times New Roman"/>
              </a:rPr>
              <a:t>GENÇLİK, HEM  HASTALIK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3200" spc="-1" strike="noStrike">
                <a:solidFill>
                  <a:srgbClr val="ffffff"/>
                </a:solidFill>
                <a:latin typeface="Lucida Sans"/>
                <a:ea typeface="Times New Roman"/>
              </a:rPr>
              <a:t>   </a:t>
            </a:r>
            <a:r>
              <a:rPr b="1" i="1" lang="tr-TR" sz="3200" spc="-1" strike="noStrike">
                <a:solidFill>
                  <a:srgbClr val="ffffff"/>
                </a:solidFill>
                <a:latin typeface="Lucida Sans"/>
                <a:ea typeface="Times New Roman"/>
              </a:rPr>
              <a:t>HEM  AÇLIK,  HEM  YOL, HEM YAĞMU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3200" spc="-1" strike="noStrike">
                <a:solidFill>
                  <a:srgbClr val="ffffff"/>
                </a:solidFill>
                <a:latin typeface="Lucida Sans"/>
                <a:ea typeface="Times New Roman"/>
              </a:rPr>
              <a:t>   </a:t>
            </a:r>
            <a:r>
              <a:rPr b="1" i="1" lang="tr-TR" sz="3200" spc="-1" strike="noStrike">
                <a:solidFill>
                  <a:srgbClr val="ffffff"/>
                </a:solidFill>
                <a:latin typeface="Lucida Sans"/>
                <a:ea typeface="Times New Roman"/>
              </a:rPr>
              <a:t>HEM  DE  SOĞUK   İÇİNDİR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3200" spc="-1" strike="noStrike">
                <a:solidFill>
                  <a:srgbClr val="ffffff"/>
                </a:solidFill>
                <a:latin typeface="Lucida Sans"/>
                <a:ea typeface="Times New Roman"/>
              </a:rPr>
              <a:t>                                                 </a:t>
            </a:r>
            <a:r>
              <a:rPr b="1" i="1" lang="tr-TR" sz="3200" spc="-1" strike="noStrike">
                <a:solidFill>
                  <a:srgbClr val="ffffff"/>
                </a:solidFill>
                <a:latin typeface="Lucida Sans"/>
                <a:ea typeface="Times New Roman"/>
              </a:rPr>
              <a:t>Yüen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3200" spc="-1" strike="noStrike">
                <a:solidFill>
                  <a:srgbClr val="ffffff"/>
                </a:solidFill>
                <a:latin typeface="Lucida Sans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7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i="1" lang="en-US" sz="3200" spc="-1" strike="noStrike">
                <a:solidFill>
                  <a:srgbClr val="ffffff"/>
                </a:solidFill>
                <a:latin typeface="Lucida Sans"/>
                <a:ea typeface="Times New Roman"/>
              </a:rPr>
              <a:t>FAYDALI  KİTAP  İNSAN  İÇİN İYİ  BİR  ARKADAŞTIR.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85800" y="3124080"/>
          <a:ext cx="3975120" cy="346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124080"/>
                    <a:ext cx="3975120" cy="34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7000">
    <p:zoom dir="out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500"/>
                            </p:stCondLst>
                            <p:childTnLst>
                              <p:par>
                                <p:cTn id="196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0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2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798560" y="259920"/>
            <a:ext cx="734544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Lucida Sans"/>
              </a:rPr>
              <a:t>      </a:t>
            </a:r>
            <a:r>
              <a:rPr b="1" i="1" lang="en-US" sz="3200" spc="-1" strike="noStrike">
                <a:solidFill>
                  <a:srgbClr val="ff0033"/>
                </a:solidFill>
                <a:latin typeface="Lucida Sans"/>
              </a:rPr>
              <a:t>KİTAP OKUYAN İNSANLARIN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33"/>
                </a:solidFill>
                <a:latin typeface="Lucida Sans"/>
              </a:rPr>
              <a:t>                </a:t>
            </a:r>
            <a:r>
              <a:rPr b="1" i="1" lang="en-US" sz="3200" spc="-1" strike="noStrike">
                <a:solidFill>
                  <a:srgbClr val="ff0033"/>
                </a:solidFill>
                <a:latin typeface="Lucida Sans"/>
              </a:rPr>
              <a:t>HUSUSIYETLERİ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Bahar  mevsiminin  ve  sabahların   canlılık  ve  yeniliğine  sahiptirl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Ø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 </a:t>
            </a: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Kitaba  olan  açlıkları  bitmez  bunların, doyuma  doğru  yaptıkları  koşu  bir ömür  boyu  devam  ed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Ø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 </a:t>
            </a:r>
            <a:r>
              <a:rPr b="1" i="1" lang="en-US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Hayatta  hikmet  yüklü bir  bilginin  ışığıyla  dolaşırl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79280" y="533520"/>
          <a:ext cx="1224000" cy="46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533520"/>
                    <a:ext cx="1224000" cy="46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7000">
    <p:zoom dir="out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1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" dur="3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700"/>
                            </p:stCondLst>
                            <p:childTnLst>
                              <p:par>
                                <p:cTn id="215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3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8300"/>
                            </p:stCondLst>
                            <p:childTnLst>
                              <p:par>
                                <p:cTn id="219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3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3300"/>
                            </p:stCondLst>
                            <p:childTnLst>
                              <p:par>
                                <p:cTn id="223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3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400"/>
                            </p:stCondLst>
                            <p:childTnLst>
                              <p:par>
                                <p:cTn id="227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" dur="3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2971440" y="0"/>
            <a:ext cx="61722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cc33"/>
                </a:solidFill>
                <a:latin typeface="Wingdings"/>
                <a:ea typeface="Wingdings"/>
              </a:rPr>
              <a:t></a:t>
            </a:r>
            <a:r>
              <a:rPr b="0" lang="tr-TR" sz="2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 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33cc33"/>
                </a:solidFill>
                <a:latin typeface="Lucida Sans"/>
                <a:ea typeface="Times New Roman"/>
              </a:rPr>
              <a:t>    </a:t>
            </a:r>
            <a:r>
              <a:rPr b="1" i="1" lang="tr-TR" sz="2800" spc="-1" strike="noStrike">
                <a:solidFill>
                  <a:srgbClr val="33cc33"/>
                </a:solidFill>
                <a:latin typeface="Lucida Sans"/>
                <a:ea typeface="Times New Roman"/>
              </a:rPr>
              <a:t>KİTAP  YÜZLÜ BİR  GELECEK  IÇI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ffff"/>
                </a:solidFill>
                <a:latin typeface="Lucida Sans"/>
                <a:ea typeface="Times New Roman"/>
              </a:rPr>
              <a:t>   “</a:t>
            </a:r>
            <a:r>
              <a:rPr b="1" i="1" lang="tr-TR" sz="2800" spc="-1" strike="noStrike">
                <a:solidFill>
                  <a:srgbClr val="00ffff"/>
                </a:solidFill>
                <a:latin typeface="Lucida Sans"/>
                <a:ea typeface="Times New Roman"/>
              </a:rPr>
              <a:t>Okumuyorsak, ihanet  </a:t>
            </a:r>
            <a:r>
              <a:rPr b="1" i="1" lang="tr-TR" sz="2800" spc="-1" strike="noStrike">
                <a:solidFill>
                  <a:srgbClr val="00ffff"/>
                </a:solidFill>
                <a:latin typeface="Times New Roman"/>
              </a:rPr>
              <a:t>      </a:t>
            </a:r>
            <a:r>
              <a:rPr b="1" i="1" lang="tr-TR" sz="2800" spc="-1" strike="noStrike">
                <a:solidFill>
                  <a:srgbClr val="00ffff"/>
                </a:solidFill>
                <a:latin typeface="Lucida Sans"/>
                <a:ea typeface="Times New Roman"/>
              </a:rPr>
              <a:t>içindeyiz, demektir</a:t>
            </a:r>
            <a:r>
              <a:rPr b="1" i="1" lang="tr-TR" sz="2800" spc="-1" strike="noStrike">
                <a:solidFill>
                  <a:srgbClr val="00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ffff"/>
                </a:solidFill>
                <a:latin typeface="Times New Roman"/>
              </a:rPr>
              <a:t>   </a:t>
            </a:r>
            <a:r>
              <a:rPr b="1" i="1" lang="tr-TR" sz="2800" spc="-1" strike="noStrike">
                <a:solidFill>
                  <a:srgbClr val="00ffff"/>
                </a:solidFill>
                <a:latin typeface="Lucida Sans"/>
                <a:ea typeface="Times New Roman"/>
              </a:rPr>
              <a:t> </a:t>
            </a:r>
            <a:r>
              <a:rPr b="1" i="1" lang="tr-TR" sz="2800" spc="-1" strike="noStrike">
                <a:solidFill>
                  <a:srgbClr val="00ffff"/>
                </a:solidFill>
                <a:latin typeface="Lucida Sans"/>
                <a:ea typeface="Times New Roman"/>
              </a:rPr>
              <a:t>Kendimiz  boşlukta  bocalarken, </a:t>
            </a:r>
            <a:r>
              <a:rPr b="1" i="1" lang="tr-TR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i="1" lang="tr-TR" sz="2800" spc="-1" strike="noStrike">
                <a:solidFill>
                  <a:srgbClr val="00ffff"/>
                </a:solidFill>
                <a:latin typeface="Lucida Sans"/>
                <a:ea typeface="Times New Roman"/>
              </a:rPr>
              <a:t>başkasına  nasıl  itmina  üfleyebiliriz ve  menfi</a:t>
            </a:r>
            <a:r>
              <a:rPr b="1" i="1" lang="tr-TR" sz="2800" spc="-1" strike="noStrike">
                <a:solidFill>
                  <a:srgbClr val="00ffff"/>
                </a:solidFill>
                <a:latin typeface="Times New Roman"/>
              </a:rPr>
              <a:t>     </a:t>
            </a:r>
            <a:r>
              <a:rPr b="1" i="1" lang="tr-TR" sz="2800" spc="-1" strike="noStrike">
                <a:solidFill>
                  <a:srgbClr val="00ffff"/>
                </a:solidFill>
                <a:latin typeface="Lucida Sans"/>
                <a:ea typeface="Times New Roman"/>
              </a:rPr>
              <a:t>akımlardan  nesilleri  nasıl  kurtarabiliriz...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ffff"/>
                </a:solidFill>
                <a:latin typeface="Lucida Sans"/>
                <a:ea typeface="Times New Roman"/>
              </a:rPr>
              <a:t>                                                          </a:t>
            </a:r>
            <a:r>
              <a:rPr b="1" i="1" lang="tr-TR" sz="2800" spc="-1" strike="noStrike">
                <a:solidFill>
                  <a:srgbClr val="00ffff"/>
                </a:solidFill>
                <a:latin typeface="Lucida Sans"/>
                <a:ea typeface="Times New Roman"/>
              </a:rPr>
              <a:t>***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0" y="685800"/>
          <a:ext cx="320040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85800"/>
                    <a:ext cx="320040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7000">
    <p:zoom dir="out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4000"/>
                            </p:stCondLst>
                            <p:childTnLst>
                              <p:par>
                                <p:cTn id="241" nodeType="afterEffect" fill="hold" presetClass="entr" presetID="12" presetSubtype="2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3" dur="3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6600"/>
                            </p:stCondLst>
                            <p:childTnLst>
                              <p:par>
                                <p:cTn id="245" nodeType="afterEffect" fill="hold" presetClass="entr" presetID="12" presetSubtype="2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7" dur="3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400"/>
                            </p:stCondLst>
                            <p:childTnLst>
                              <p:par>
                                <p:cTn id="249" nodeType="afterEffect" fill="hold" presetClass="entr" presetID="12" presetSubtype="2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1" dur="3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4800"/>
                            </p:stCondLst>
                            <p:childTnLst>
                              <p:par>
                                <p:cTn id="253" nodeType="afterEffect" fill="hold" presetClass="entr" presetID="12" presetSubtype="2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5" dur="3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1300"/>
                            </p:stCondLst>
                            <p:childTnLst>
                              <p:par>
                                <p:cTn id="257" nodeType="afterEffect" fill="hold" presetClass="entr" presetID="12" presetSubtype="2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9" dur="3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22860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tr-T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i="1" lang="tr-TR" sz="3200" spc="-1" strike="noStrike">
                <a:solidFill>
                  <a:srgbClr val="ffffff"/>
                </a:solidFill>
                <a:latin typeface="Lucida Sans"/>
                <a:ea typeface="Times New Roman"/>
              </a:rPr>
              <a:t>Kitap, düşünce  bahçelerinden devşirilmiş  bir  buket  çiçek, DÜNLE YARIN ARASINDA çetin  bir yolun  yolcusu  olan  insanın önüne  serpilmiş  bir kucak  ışıktır. Kitabın sevdasıyla ömrüne ömür katmış bir  sevdalının  ifadesiyle , “Aşk  gibi  bir  seydir  O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800600" y="4038480"/>
          <a:ext cx="269712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4038480"/>
                    <a:ext cx="269712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7000">
    <p:zoom dir="out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000"/>
                            </p:stCondLst>
                            <p:childTnLst>
                              <p:par>
                                <p:cTn id="269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2590560" y="0"/>
            <a:ext cx="63738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tr-T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tr-TR" sz="2800" spc="-1" strike="noStrike">
                <a:solidFill>
                  <a:srgbClr val="ff0033"/>
                </a:solidFill>
                <a:latin typeface="Lucida Sans"/>
                <a:ea typeface="Times New Roman"/>
              </a:rPr>
              <a:t>Kitaptan  gayrı , vefalı  bır ses  duymadıgımız  zamanlar  içerisinde, bilinmez  bir  geleceğe  doğru  akıyoruz.Çaresizlikler  içerisinde  kıvranan  zamanlarda  çıkıp  gelen  güzel  insanlar  atlarına  binip  gitmiş  olsalar da, kapısı  her  zaman  bize  açık kitaba  koşuyoruz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ff0033"/>
                </a:solidFill>
                <a:latin typeface="Times New Roman"/>
              </a:rPr>
              <a:t>          </a:t>
            </a:r>
            <a:r>
              <a:rPr b="1" i="1" lang="tr-TR" sz="2800" spc="-1" strike="noStrike">
                <a:solidFill>
                  <a:srgbClr val="ff0033"/>
                </a:solidFill>
                <a:latin typeface="Lucida Sans"/>
                <a:ea typeface="Times New Roman"/>
              </a:rPr>
              <a:t>Dostlar  susmaya  devam  etseler de, bir  telefonluk  yakınlığa  inat  mesafeleri  uzatsalar da  sevdamızda  vefalı  olmalıyız</a:t>
            </a:r>
            <a:r>
              <a:rPr b="0" lang="tr-TR" sz="2800" spc="-1" strike="noStrike">
                <a:solidFill>
                  <a:srgbClr val="ff0033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0" y="990720"/>
          <a:ext cx="2924280" cy="39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292428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7000">
    <p:zoom dir="out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500"/>
                            </p:stCondLst>
                            <p:childTnLst>
                              <p:par>
                                <p:cTn id="281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5600"/>
                            </p:stCondLst>
                            <p:childTnLst>
                              <p:par>
                                <p:cTn id="28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3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3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828800" y="2276640"/>
            <a:ext cx="777240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4876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ffff"/>
                </a:solidFill>
                <a:latin typeface="Wingdings"/>
                <a:ea typeface="Wingdings"/>
              </a:rPr>
              <a:t></a:t>
            </a:r>
            <a:r>
              <a:rPr b="1" lang="tr-T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  </a:t>
            </a:r>
            <a:r>
              <a:rPr b="1" lang="tr-TR" sz="2800" spc="-1" strike="noStrike" u="sng">
                <a:solidFill>
                  <a:srgbClr val="00ffff"/>
                </a:solidFill>
                <a:uFillTx/>
                <a:latin typeface="Lucida Sans"/>
                <a:ea typeface="Times New Roman"/>
              </a:rPr>
              <a:t>HAYATINIZ   BİR   DUADIR</a:t>
            </a:r>
            <a:r>
              <a:rPr b="0" i="1" lang="tr-TR" sz="2800" spc="-1" strike="noStrike" u="sng">
                <a:solidFill>
                  <a:srgbClr val="00ffff"/>
                </a:solidFill>
                <a:uFillTx/>
                <a:latin typeface="Lucida Sans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ffcc66"/>
                </a:solidFill>
                <a:latin typeface="Lucida Sans"/>
              </a:rPr>
              <a:t>Nelere  sahip  olmak  istediğinizi     yaşadığınız    hayatla ortaya   koyarsınız.      </a:t>
            </a:r>
            <a:br>
              <a:rPr sz="2800"/>
            </a:br>
            <a:r>
              <a:rPr b="1" i="1" lang="tr-TR" sz="2800" spc="-1" strike="noStrike">
                <a:solidFill>
                  <a:srgbClr val="ffcc66"/>
                </a:solidFill>
                <a:latin typeface="Lucida Sans"/>
                <a:ea typeface="Times New Roman"/>
              </a:rPr>
              <a:t>Size   dilinizle  istediklerinizden  çok   haya tınınızla   istedikleriniz  verilir.Büyük  şeyler  istemek    kolaydır.Zor  olan    ha</a:t>
            </a:r>
            <a:r>
              <a:rPr b="1" i="1" lang="tr-TR" sz="3600" spc="-1" strike="noStrike">
                <a:solidFill>
                  <a:srgbClr val="ffcc66"/>
                </a:solidFill>
                <a:latin typeface="Times New Roman"/>
              </a:rPr>
              <a:t>yatı</a:t>
            </a:r>
            <a:r>
              <a:rPr b="1" i="1" lang="tr-TR" sz="2800" spc="-1" strike="noStrike">
                <a:solidFill>
                  <a:srgbClr val="ffcc66"/>
                </a:solidFill>
                <a:latin typeface="Lucida Sans"/>
                <a:ea typeface="Times New Roman"/>
              </a:rPr>
              <a:t>nızın   , istediğiniz  şeylere    şahitlik   yapmasıdır ;  dinlenecek  tekşey   meşru   hayatınızdır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0" y="206280"/>
          <a:ext cx="228600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6280"/>
                    <a:ext cx="22860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7000">
    <p:zoom dir="ou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2" presetSubtype="4">
                                  <p:stCondLst>
                                    <p:cond delay="300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3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09480" y="5724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cc66"/>
                </a:solidFill>
                <a:uFillTx/>
                <a:latin typeface="Lucida Sans"/>
                <a:ea typeface="Times New Roman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0"/>
            <a:ext cx="45720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 Unicode MS"/>
                <a:ea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38098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</a:t>
            </a:r>
            <a:r>
              <a:rPr b="0" lang="tr-T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i="1" lang="tr-TR" sz="2400" spc="-1" strike="noStrike">
                <a:solidFill>
                  <a:srgbClr val="ffffff"/>
                </a:solidFill>
                <a:latin typeface="Lucida Sans"/>
                <a:ea typeface="Times New Roman"/>
              </a:rPr>
              <a:t>İki   kaşımızın    altındaki   gözlerimizle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ffffff"/>
                </a:solidFill>
                <a:latin typeface="Lucida Sans"/>
              </a:rPr>
              <a:t>  </a:t>
            </a:r>
            <a:r>
              <a:rPr b="1" i="1" lang="tr-TR" sz="2400" spc="-1" strike="noStrike">
                <a:solidFill>
                  <a:srgbClr val="ffffff"/>
                </a:solidFill>
                <a:latin typeface="Lucida Sans"/>
              </a:rPr>
              <a:t>g</a:t>
            </a:r>
            <a:r>
              <a:rPr b="1" i="1" lang="tr-TR" sz="2400" spc="-1" strike="noStrike">
                <a:solidFill>
                  <a:srgbClr val="ffffff"/>
                </a:solidFill>
                <a:latin typeface="Lucida Sans"/>
                <a:ea typeface="Times New Roman"/>
              </a:rPr>
              <a:t>örebilmem</a:t>
            </a:r>
            <a:r>
              <a:rPr b="1" i="1" lang="tr-T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1" i="1" lang="tr-TR" sz="2400" spc="-1" strike="noStrike">
                <a:solidFill>
                  <a:srgbClr val="ffffff"/>
                </a:solidFill>
                <a:latin typeface="Lucida Sans"/>
                <a:ea typeface="Times New Roman"/>
              </a:rPr>
              <a:t>z    için   ısık   </a:t>
            </a:r>
            <a:r>
              <a:rPr b="1" i="1" lang="tr-T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ş</a:t>
            </a:r>
            <a:r>
              <a:rPr b="1" i="1" lang="tr-TR" sz="2400" spc="-1" strike="noStrike">
                <a:solidFill>
                  <a:srgbClr val="ffffff"/>
                </a:solidFill>
                <a:latin typeface="Lucida Sans"/>
                <a:ea typeface="Times New Roman"/>
              </a:rPr>
              <a:t>arttır.</a:t>
            </a:r>
            <a:r>
              <a:rPr b="1" i="1" lang="tr-TR" sz="2400" spc="-1" strike="noStrike">
                <a:solidFill>
                  <a:srgbClr val="ffffff"/>
                </a:solidFill>
                <a:latin typeface="Lucida Sans"/>
              </a:rPr>
              <a:t> </a:t>
            </a:r>
            <a:r>
              <a:rPr b="1" i="1" lang="tr-TR" sz="2400" spc="-1" strike="noStrike">
                <a:solidFill>
                  <a:srgbClr val="ffffff"/>
                </a:solidFill>
                <a:latin typeface="Lucida Sans"/>
                <a:ea typeface="Times New Roman"/>
              </a:rPr>
              <a:t>Kapkaranlık  odada  görme  gücünü  yitirmis  gözler  göremez.Buna  hayatımızın  dıs  ısıkları  diyelim.Güne</a:t>
            </a:r>
            <a:r>
              <a:rPr b="1" i="1" lang="tr-T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ş</a:t>
            </a:r>
            <a:r>
              <a:rPr b="1" i="1" lang="tr-TR" sz="2400" spc="-1" strike="noStrike">
                <a:solidFill>
                  <a:srgbClr val="ffffff"/>
                </a:solidFill>
                <a:latin typeface="Lucida Sans"/>
                <a:ea typeface="Times New Roman"/>
              </a:rPr>
              <a:t>,</a:t>
            </a:r>
            <a:r>
              <a:rPr b="1" i="1" lang="tr-T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i="1" lang="tr-TR" sz="2400" spc="-1" strike="noStrike">
                <a:solidFill>
                  <a:srgbClr val="ffffff"/>
                </a:solidFill>
                <a:latin typeface="Lucida Sans"/>
                <a:ea typeface="Times New Roman"/>
              </a:rPr>
              <a:t>sokak  lambaları,</a:t>
            </a:r>
            <a:r>
              <a:rPr b="1" i="1" lang="tr-T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i="1" lang="tr-TR" sz="2400" spc="-1" strike="noStrike">
                <a:solidFill>
                  <a:srgbClr val="ffffff"/>
                </a:solidFill>
                <a:latin typeface="Lucida Sans"/>
                <a:ea typeface="Times New Roman"/>
              </a:rPr>
              <a:t>ay  ısıgı   gibi...  Birde   iç  ısıklarımız  vardır.  Kalbimiz  bu  iç  ısıkları  ile  görür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667400" y="1295280"/>
            <a:ext cx="3466800" cy="41148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2438280"/>
            <a:ext cx="9144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7000"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500"/>
                            </p:stCondLst>
                            <p:childTnLst>
                              <p:par>
                                <p:cTn id="36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cmd type="call" cmd="">
                                      <p:cBhvr>
                                        <p:cTn id="37" fill="hold">
                                          <p:stCondLst>
                                            <p:cond evt="begin"/>
                                          </p:stCondLst>
                                        </p:cTn>
                                      </p:cBhvr>
                                    </p:cmd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3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7300"/>
                            </p:stCondLst>
                            <p:childTnLst>
                              <p:par>
                                <p:cTn id="41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cmd type="call" cmd="">
                                      <p:cBhvr>
                                        <p:cTn id="42" fill="hold">
                                          <p:stCondLst>
                                            <p:cond evt="begin"/>
                                          </p:stCondLst>
                                        </p:cTn>
                                      </p:cBhvr>
                                    </p:cmd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3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3733920"/>
            <a:ext cx="9144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 </a:t>
            </a:r>
            <a:r>
              <a:rPr b="1" i="1" lang="en-US" sz="3200" spc="-1" strike="noStrike">
                <a:solidFill>
                  <a:srgbClr val="ffffff"/>
                </a:solidFill>
                <a:latin typeface="Lucida Sans"/>
                <a:ea typeface="Times New Roman"/>
              </a:rPr>
              <a:t>İç  sıkıntımızın enerji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Lucida Sans"/>
                <a:ea typeface="Times New Roman"/>
              </a:rPr>
              <a:t>     </a:t>
            </a:r>
            <a:r>
              <a:rPr b="1" i="1" lang="en-US" sz="3200" spc="-1" strike="noStrike">
                <a:solidFill>
                  <a:srgbClr val="ffffff"/>
                </a:solidFill>
                <a:latin typeface="Lucida Sans"/>
                <a:ea typeface="Times New Roman"/>
              </a:rPr>
              <a:t>kaynakları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i="1" lang="en-US" sz="3200" spc="-1" strike="noStrike">
                <a:solidFill>
                  <a:srgbClr val="ffffff"/>
                </a:solidFill>
                <a:latin typeface="Lucida Sans"/>
                <a:ea typeface="Times New Roman"/>
              </a:rPr>
              <a:t>İLİ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i="1" lang="en-US" sz="3200" spc="-1" strike="noStrike">
                <a:solidFill>
                  <a:srgbClr val="ffffff"/>
                </a:solidFill>
                <a:latin typeface="Lucida Sans"/>
                <a:ea typeface="Times New Roman"/>
              </a:rPr>
              <a:t>ZEK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i="1" lang="en-US" sz="3200" spc="-1" strike="noStrike">
                <a:solidFill>
                  <a:srgbClr val="ffffff"/>
                </a:solidFill>
                <a:latin typeface="Lucida Sans"/>
                <a:ea typeface="Times New Roman"/>
              </a:rPr>
              <a:t>TECRÜB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i="1" lang="en-US" sz="3200" spc="-1" strike="noStrike">
                <a:solidFill>
                  <a:srgbClr val="ffffff"/>
                </a:solidFill>
                <a:latin typeface="Lucida Sans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Lucida Sans"/>
                <a:ea typeface="Times New Roman"/>
              </a:rPr>
              <a:t>FAYDASIZ  ŞEYLERDEN   UZAK  DURMAK, GEREKSIZ  SÖZLER  SARFETMEMEK 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168880" y="1295280"/>
          <a:ext cx="3975120" cy="34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68880" y="1295280"/>
                    <a:ext cx="3975120" cy="34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7000">
    <p:zoom dir="ou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0"/>
                            </p:stCondLst>
                            <p:childTnLst>
                              <p:par>
                                <p:cTn id="58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7500"/>
                            </p:stCondLst>
                            <p:childTnLst>
                              <p:par>
                                <p:cTn id="62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6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2500"/>
                            </p:stCondLst>
                            <p:childTnLst>
                              <p:par>
                                <p:cTn id="70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0"/>
                            </p:stCondLst>
                            <p:childTnLst>
                              <p:par>
                                <p:cTn id="74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743200" y="914400"/>
            <a:ext cx="6362640" cy="417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Ø 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Bilgi  çekirdektir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. Çatlayıp  bilgi   vermesi için   uygun  bir  toprağa atılması  gereki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Ø 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oprakta sizin  ISRAR  ve   ÇOBANINIZD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838080" y="609480"/>
          <a:ext cx="1492200" cy="563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609480"/>
                    <a:ext cx="1492200" cy="56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7000">
    <p:zoom dir="ou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3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900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3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124080" y="1828800"/>
            <a:ext cx="6019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</a:t>
            </a:r>
            <a:r>
              <a:rPr b="0" lang="tr-T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i="1" lang="tr-TR" sz="3200" spc="-1" strike="noStrike">
                <a:solidFill>
                  <a:srgbClr val="ffffff"/>
                </a:solidFill>
                <a:latin typeface="Lucida Sans"/>
                <a:ea typeface="Times New Roman"/>
              </a:rPr>
              <a:t>Her  hareketinizle  hedefinize  layık  olmaya  çalısmalısınız, BİLGİYİ  birtaraftan  toplamanıza   birtaraftanda   netice  vermesine  sebep  olur . Çaba  ile   bütünleşmemiş  bilgi  SÜS  olarak  kalır .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3200" spc="-1" strike="noStrike">
                <a:solidFill>
                  <a:srgbClr val="ffffff"/>
                </a:solidFill>
                <a:latin typeface="Lucida Sans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79280" y="1773360"/>
            <a:ext cx="3157560" cy="34686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zoom dir="ou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479600" y="3504960"/>
            <a:ext cx="762624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i="1" lang="en-US" sz="3200" spc="-1" strike="noStrike">
                <a:solidFill>
                  <a:srgbClr val="ffffff"/>
                </a:solidFill>
                <a:latin typeface="Lucida Sans"/>
                <a:ea typeface="Times New Roman"/>
              </a:rPr>
              <a:t>SİDDETLİ   YAĞMUR  ALTINDA  BİR  ARABANIN  SİLECEKLERİ  DEVAMLI  ÇALIŞIR. CAM  BUĞULANMIŞ İSE GÖRMEK  İÇİN   SİLMEK   GEREKIR.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438280" y="380880"/>
          <a:ext cx="5029200" cy="26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380880"/>
                    <a:ext cx="502920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7000">
    <p:zoom dir="ou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3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09480" y="2636640"/>
            <a:ext cx="77724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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i="1" lang="en-US" sz="3200" spc="-1" strike="noStrike">
                <a:solidFill>
                  <a:srgbClr val="ffffff"/>
                </a:solidFill>
                <a:latin typeface="Lucida Sans"/>
                <a:ea typeface="Times New Roman"/>
              </a:rPr>
              <a:t>1933   yılında, Nazi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 Almanya’sında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n-US" sz="3200" spc="-1" strike="noStrike">
                <a:solidFill>
                  <a:srgbClr val="ffffff"/>
                </a:solidFill>
                <a:latin typeface="Lucida Sans"/>
                <a:ea typeface="Times New Roman"/>
              </a:rPr>
              <a:t>muhteşem  kitap  yakma  törenleri  yapıldı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i="1" lang="en-US" sz="3200" spc="-1" strike="noStrike">
                <a:solidFill>
                  <a:srgbClr val="ffffff"/>
                </a:solidFill>
                <a:latin typeface="Lucida Sans"/>
                <a:ea typeface="Times New Roman"/>
              </a:rPr>
              <a:t>Ancak   anlaşıldı   ki: KİTAPLARIN  YAKILDIĞI  YERDE, BİR  MÜDDET  SONRA İNSANLARDA  YAKILIR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419640" y="260280"/>
          <a:ext cx="2971800" cy="22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260280"/>
                    <a:ext cx="297180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7000">
    <p:zoom dir="ou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7500"/>
                            </p:stCondLst>
                            <p:childTnLst>
                              <p:par>
                                <p:cTn id="136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8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626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</a:t>
            </a:r>
            <a:r>
              <a:rPr b="0" lang="tr-T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i="1" lang="tr-TR" sz="3200" spc="-1" strike="noStrike">
                <a:solidFill>
                  <a:srgbClr val="ffffff"/>
                </a:solidFill>
                <a:latin typeface="Lucida Sans"/>
                <a:ea typeface="Times New Roman"/>
              </a:rPr>
              <a:t>Meşhur  Çiçero,  köy  evi  Tuslum’a  çekildi. Bütün hayatıda  şu  cümle  ile özetleyiverdi: BİR  KİTAPLIĞIN VE  BİR  BAHÇEN VARSA  HİÇBİR  EKSİĞİN  YOK DEMEKTIR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523880" y="3581280"/>
          <a:ext cx="4583160" cy="295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581280"/>
                    <a:ext cx="4583160" cy="29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 advTm="7000">
    <p:zoom dir="ou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02T17:35:57Z</dcterms:created>
  <dc:creator>ism</dc:creator>
  <dc:description/>
  <dc:language>en-US</dc:language>
  <cp:lastModifiedBy>Kayatepe</cp:lastModifiedBy>
  <dcterms:modified xsi:type="dcterms:W3CDTF">2011-05-02T07:01:36Z</dcterms:modified>
  <cp:revision>44</cp:revision>
  <dc:subject/>
  <dc:title>PowerPoint Sunusu</dc:title>
</cp:coreProperties>
</file>